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30192-5458-46EF-A29B-8D6650C44D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A03EF-A824-4441-8B88-55D250FE3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01202-8490-48B7-A047-32704F75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98D08-AC45-458F-B0CC-BD096FE4AD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9EEF6-985F-4A39-A21D-88568D870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EA16D-EAAD-4547-9ADB-CC88E02D5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C8251-E840-4399-ABE3-BF62D0A2B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B5447-FF63-48B5-A90F-145B59566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B9021-B1C1-4359-BD42-241343C36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87B1B-5980-44B9-A703-EE018834F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30FD7-5AE9-4C77-8BA2-FE5A521EB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C0CBF-94E3-49CC-A504-DB7DCECC6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0853F-B469-4FD6-B683-688977925BF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八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局部麻醉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酰胺类中效局麻药和抗心律失常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麻作用及维持时间均较普鲁卡因强和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快，穿透性、扩散性强，扩张血管不明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Ⅰ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抗心律失常药，主要作用于浦肯野纤维和心室肌，可降低自律性和心肌兴奋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神经传导阻滞麻醉、表面麻醉、浸润麻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急性心肌梗死引起的心律失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后迅速分布，能透过血脑屏障及胎盘屏障，可进入乳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注（抗心律失常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秒钟起效，皮下浸润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，硬膜外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达血药浓度峰值，皮下浸润麻醉与硬膜外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达血药浓度峰值，静注作用持续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浸润麻醉作用持续时间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加肾上腺素可延长作用时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5~2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血浆蛋白结合率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，主要在肝脏代谢，从肾脏排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部注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表面麻醉、浸润麻醉、硬膜外周围神经阻滞、硬膜外和骶管阻滞、蛛网膜下腔阻滞麻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注或静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心律失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枢神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嗜睡、眩晕、定向不能，易激惹，耳鸣、听力下降，复视或视物模糊，唇及舌麻木以及其他感觉异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大剂量时可有惊厥、呼吸抑制甚至停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血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大量可致低血压、心动过缓、心传导紊乱，心血管性虚脱，心搏骤停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其他：厌食、恶心、呕吐、大汗、过敏反应（皮疹、荨麻疹乃至休克）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酰胺类药过敏者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Ⅱ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房室传导阻滞、室性传导阻滞、癫痫大发作、严重肝功能不全、严重创伤、休克、感染、毒血症、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斯综合征、窦性心动过缓未经治疗、严重窦房、房室及室内心传导阻滞者、乳母、儿童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或肾功能不全者、低血容量、充血性心衰患者、明显缺氧、呼吸抑制、重症肌无力、衰弱、老年、孕妇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本品的剂量个体差异大，注射时应从小剂量开始，使用浓度较低的注射液，注射速度尽可能缓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肌内注射时应注意抽回血，以免误入血管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静脉注射只用于抗心律失常，速度必须掌握，一般每分钟不得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m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连续蛛网膜下腔阻滞用量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致永久性损伤（马尾综合征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中毒的处理：立即停止输入药物，一般可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症状消失，继续观察并备好抢救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为长效酯类局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麻作用较普鲁卡因强，但毒性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黏膜穿透力强，表面麻醉效果好，一般不用于浸润麻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表面局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易通过粘膜、损伤皮肤或注射部位吸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吸收后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与血浆蛋白结合，随后大部分经肝分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谢产物经肾排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表面局麻、浸润局麻、神经传导阻滞、硬膜外阻滞、蛛网膜下腔阻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浸润麻醉、神经传导阻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的极量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反应及中枢神经、心血管、眼、鼻、喉等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老、衰弱，对本品或其他酯类局麻药过敏者、对基氨苯甲酸及其他类似剂过敏者、注射处有感染、小儿、孕妇等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休克、哺乳期妇女、恶病质、心代偿功能失调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普鲁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利多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丁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布比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罗哌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因药物会引起急性心功能不全、心力衰竭或循环骤停等严重不良反应，用药前认真核对药物名称、浓度及总用量，并应密切监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用于喉、气管或食道粘膜时，可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肾上腺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06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入本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延迟吸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喉部麻醉的患者，在未恢复感觉前不可进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本品可致角膜腐蚀，因此眼科患者不可长期应用本品眼膏，应用本品后角膜失去感觉，故应避免揉眼、触摸而致损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布比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酰胺类长效局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麻作用和毒性均较利多卡因强，作用时间比利多卡因长，与丁卡因相似或更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无血管扩张作用，阻滞时间长，加入肾上腺素可使阻滞时间延长，但对心脏的毒性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麻醉和手术后镇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布比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应用于浸润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，用于硬膜外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7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，用于腰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时间依麻醉部位不同而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达血药浓度峰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浆蛋白结合率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肝脏代谢，经肾排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：浸润麻醉，神经传导阻滞及硬膜外阻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用量一般不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每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mg/k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重复应用至少应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布比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见兴奋、低血压、抽搐、心律失常、心动过缓、呼吸抑制、恶心、呕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酰胺类药过敏者、严重肝或肾功能不良者、低蛋白血症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、孕妇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布比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用药患者可能会出现低血压、心律失常、呼吸抑制等反应，因此用药期间注意监护血压、心律、呼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罗哌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纯左旋体酰胺类长效局麻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麻醉和镇痛双重效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剂量可产生外科麻醉，小剂量时则产生感觉阻滞（镇痛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麻醉和急性疼痛控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罗哌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浆浓度取决于计量、用药途径和注射部位的血管分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时间依麻醉部位不同而异，一般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h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肝脏代谢，经肾排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罗哌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最常见恶心和低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酰胺类药过敏者、严重肝或肾功能不良者、低蛋白血症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、孕妇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患者可能会出现低血压、心动过缓等反应，用药期间注意监护血压、心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短效酯类局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皮肤、黏膜穿透力弱，须注射给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起效快，作用时间短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毒性低，无中枢刺激作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过敏率较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浸润麻醉、腰麻、外周神经丛阻滞、蛛网膜下隙阻滞，也用于封闭疗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给药，吸收迅速，分布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开始发生作用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达血药浓度峰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.7mi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胆碱酯酶水解破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谢产物主要由肾排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浸润局麻：用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2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，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次量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0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外周神经（丛）阻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，总量以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为限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硬膜外麻醉用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，每小时不超过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75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腰麻用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，最大用量为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50m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蛛网膜下隙阻滞，限于会阴区时用量为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0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75mg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7.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），下肢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7.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成人处方限量，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次量不得超过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为延长局部浸润麻醉作用时间，常在普鲁卡因溶液中加入少量肾上腺素（约每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00ml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中加入肾上腺素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5ml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，可使作用时间延长到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局部封闭：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2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水溶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般无不良反应，但过敏率稍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枢神经：焦虑、神经过敏、眩晕、耳鸣、口唇周围感觉异常、视物模糊、颤抖、嗜睡、痉挛、呼吸停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血管：心肌抑制、心律不齐、包括心动过缓（有时可致死），低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胃肠道：恶心、呕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肤：荨麻疹、瘙痒等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其他：硬膜外麻醉和骶管麻醉时可出现尿潴留、二便失禁、头痛、背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毒血症、感染、炎症、脑脊髓病（脑膜炎、梅毒）、心脏传导阻滞、低血压或高血压、胃肠道出血者、妊娠者禁用。产妇、老人、衰弱、急性病、低血容量、腹内压升高的、心律紊乱、休克患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先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2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溶液作皮内过敏试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部麻醉注射时应慢注，并注意有无回血，以免误入血管内，引起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用肾上腺素时，应警惕产生心律失常的危险，必须密切监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腰麻时常出现血压降低，可在麻醉前肌注麻黄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10:19:55Z</dcterms:modified>
  <cp:revision>104</cp:revision>
  <dc:subject/>
  <dc:title>内科护理学</dc:title>
</cp:coreProperties>
</file>